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18843"/>
        <c:axId val="76067755"/>
      </c:barChart>
      <c:catAx>
        <c:axId val="27918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67755"/>
        <c:crosses val="autoZero"/>
        <c:auto val="1"/>
        <c:lblAlgn val="ctr"/>
        <c:lblOffset val="100"/>
        <c:noMultiLvlLbl val="0"/>
      </c:catAx>
      <c:valAx>
        <c:axId val="76067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18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327-3CB6-4CE4-A986-4F95076A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E39-14B9-4653-9369-ECE12C46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E5D-A17F-434F-AA88-CA04DF52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578-0D06-4C81-ACFE-89890DD7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099-FC45-4F5C-8809-ABED940E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D9E-B54C-46EA-A812-7C2CFD73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7A5-B1CC-495A-ADD5-580F592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891-BC47-4061-8AA5-BBEC86C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018-2E9A-479B-96C4-AF6150DC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4D9-5711-41A4-9F7E-00453C39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F41-A95D-4280-8E97-A291964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457-1188-4CBC-B600-2979823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F33C4-2BE9-4643-B815-71953C700F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