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86332"/>
        <c:axId val="64204005"/>
      </c:barChart>
      <c:catAx>
        <c:axId val="21486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04005"/>
        <c:crosses val="autoZero"/>
        <c:auto val="1"/>
        <c:lblAlgn val="ctr"/>
        <c:lblOffset val="100"/>
        <c:noMultiLvlLbl val="0"/>
      </c:catAx>
      <c:valAx>
        <c:axId val="64204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86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4DB-ECC8-4498-A5CB-383A733F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9CF-C421-4113-BB9E-ACBAB0C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61C-6900-48F6-A89B-421D0F8F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87C-2E90-4134-886C-11038E5A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201-EAC4-4F98-B8E6-3DA2484E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78C-484E-41B7-A318-AB36EC66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971-4158-4BFD-A950-2A5094C9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A3E-3BEE-4ED8-ABC7-C6F294E4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A2F-AAB5-4C12-809F-331EA6DE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937-C882-4E1C-8EA0-666CCF39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20B-BFD2-44D4-A07A-CF285F7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FE3-D4B8-4718-BA7F-47C971E2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8973E-6C1D-4293-A592-9424805257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