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358823"/>
        <c:axId val="61778833"/>
      </c:barChart>
      <c:catAx>
        <c:axId val="603588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778833"/>
        <c:crosses val="autoZero"/>
        <c:auto val="1"/>
        <c:lblAlgn val="ctr"/>
        <c:lblOffset val="100"/>
        <c:noMultiLvlLbl val="0"/>
      </c:catAx>
      <c:valAx>
        <c:axId val="617788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588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1A3A-E623-42A9-9FF7-83D97B11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B08B-01BA-4B3C-96E9-2EA419AF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2496-5335-449C-BBF5-5CC9DAAC5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1A50-F70E-455A-BBBE-5C952BCDD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1BB8-785F-4482-8AA0-AE466402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89AA-C1B7-4F2E-B55C-5951EC4B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FDBD-7774-48D7-8F83-61756713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C69A-CD47-431E-A3E6-B1F1D5EE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433C-465C-4723-9C3B-D90B5A49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3038-6CD7-4B1F-B31B-D258C6F3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5284-4D05-4963-A747-6F3BEE5F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CD98-9BFC-4F2D-B9F7-2B09F915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C0A40-7C06-4B61-BE6C-F958B568F2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